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996-393B-43E6-980C-C7E3546C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2B1-F02E-4BAA-B1DA-684461D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828-B703-48CA-9331-4E2E836A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641-C702-4FB0-B527-2324A063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035-D47D-4E2F-BC13-36AA4C0E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8E9-74D1-4EE2-8939-2A7E65B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971-5BFD-4F08-BF14-A7E2BA2E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C39-90C9-4503-BE55-5DDF186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6B7-D309-43FD-ACBC-86FCEFCE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0CD-5AC7-497A-98E4-902D342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67E-AF9E-4246-8C9D-4FF18489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DD7-F754-435A-B220-74D3F22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2B1-060C-4BF4-8C6B-C008B8A4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zusa.or.jp/codon/cgi-bin/showcodon.cgi?species=Escherichia+coli+K12+%5Bgbbct%5D&amp;aa=1&amp;style=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214" r="2411" b="18059"/>
          <a:stretch/>
        </p:blipFill>
        <p:spPr>
          <a:xfrm>
            <a:off x="1447920" y="838080"/>
            <a:ext cx="6172200" cy="3733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2400" y="15228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“Mutagenesis Primer Generator by JL 07110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67652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9907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sequence here</a:t>
            </a:r>
            <a:br>
              <a:rPr sz="1400"/>
            </a:b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(FASTA 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04960" y="1828800"/>
            <a:ext cx="114300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0968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residue number you want to chang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295280"/>
            <a:ext cx="108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letter code you want to change to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048120"/>
            <a:ext cx="175248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4495680"/>
            <a:ext cx="304920" cy="10670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48640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hange settings here decimal number all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ptimum is turned off when set to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22860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560" y="4495320"/>
            <a:ext cx="685800" cy="1143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410080"/>
            <a:ext cx="458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ritical will force the primers generated to meet the criteria by scoring all that doesn’t meet the criteria a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048120" y="2971800"/>
            <a:ext cx="2286000" cy="17524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4956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You can force program to use particular codon you wri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BUT Residue letter box must be fi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9421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fill in the user settings and program will automatically generate 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lting temperature (Tm) is calculated using the formula from QuikChange manual from Strata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6000" y="152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analyz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81" t="4764" r="1189" b="15878"/>
          <a:stretch/>
        </p:blipFill>
        <p:spPr>
          <a:xfrm>
            <a:off x="380880" y="99072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04920"/>
            <a:ext cx="138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your sequence is properly trans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mutation site and amino acid residue before mutation 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 the bracket is DNA codon befor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971800"/>
            <a:ext cx="221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don will be auto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osed based on th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inimum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Highest codon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f you don’t like codon selec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ype in the codon you lik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ce Cod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48160" y="685800"/>
            <a:ext cx="60948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1600200"/>
            <a:ext cx="2514600" cy="10666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09520" y="2895480"/>
            <a:ext cx="2971800" cy="609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133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List of available codons, and it’s mismatches and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71840" y="2438280"/>
            <a:ext cx="6858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429000"/>
            <a:ext cx="2438280" cy="17524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63760" y="4876920"/>
            <a:ext cx="213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ymmetrically designed pri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at satisfy optim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or minimum 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266720" y="4038480"/>
            <a:ext cx="2514600" cy="1905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2160" y="5638680"/>
            <a:ext cx="230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ymetrically designed primers that earned highest score in scoring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7640" y="5638680"/>
            <a:ext cx="710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mers are scored by earning max point for the criteria when they are in opt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if optimum is turned off (0), earns full point if it’s in the range between max and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T if critical is turned on, final score is 0 no matter what if they don’t satisfy tha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7080" y="1522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48" t="8992" r="0" b="12502"/>
          <a:stretch/>
        </p:blipFill>
        <p:spPr>
          <a:xfrm>
            <a:off x="380880" y="1066680"/>
            <a:ext cx="6629400" cy="399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6019920" y="4419720"/>
            <a:ext cx="12189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41148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elect text (drag to highlight) than RIGHT-mouse 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880" y="4952880"/>
            <a:ext cx="15264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943600"/>
            <a:ext cx="53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ress here to APPEND ( = Add at the end BUT will create new if you give new filename)  onto a tex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666520" y="2590920"/>
            <a:ext cx="2057400" cy="2133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6360" y="15228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change the codon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080" y="6094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will read codons from “codon.dat” – Tex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d ‘dat’ extensions to prevent people from Appending their output on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don database came with this program is fo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scherichia co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azusa.or.jp/codon/cgi-bin/showcodon.cgi?species=Escherichia+coli+K12+%5Bgbbct%5D&amp;aa=1&amp;style=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1540" t="8545" r="11540" b="17950"/>
          <a:stretch/>
        </p:blipFill>
        <p:spPr>
          <a:xfrm>
            <a:off x="990720" y="2438280"/>
            <a:ext cx="4572000" cy="32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236232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 should be formatte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3 character – co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acter – AA l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 -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 –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be written in DNA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 Replace command and change U </a:t>
            </a:r>
            <a:r>
              <a:rPr b="1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3049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87948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nas Lee using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76520"/>
            <a:ext cx="66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S-H Kim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1 Chemistry Nobel Laureate + “Lab”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California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80" y="335268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ee to distribute BUT must be distributed with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40" y="407988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yright 2006.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9200" y="484200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kChange Multi Mutagenesis Manual from Strata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n Usage Table from G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2:36:22Z</dcterms:created>
  <dc:creator>Jonas Lee</dc:creator>
  <dc:description/>
  <dc:language>en-US</dc:language>
  <cp:lastModifiedBy>Jonas Lee</cp:lastModifiedBy>
  <dcterms:modified xsi:type="dcterms:W3CDTF">2007-04-03T06:39:34Z</dcterms:modified>
  <cp:revision>42</cp:revision>
  <dc:subject/>
  <dc:title>PowerPoint Presentation</dc:title>
</cp:coreProperties>
</file>